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9F99-ABCE-4349-8133-E72F8E109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3AFF-E797-463B-99F5-321EDDABB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DFA-764F-4464-8CD2-D607126E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189-E837-460D-ADE9-7C06BE23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735-197E-4D87-969E-0AFE51DC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4F5-F1B9-4082-9BE2-DFB295D8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8743-4911-42D2-989F-9C5B751E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274A-4770-4046-B001-20A27C88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4868-9DE9-4528-BDEC-4B6320AE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5EDA-A61B-47F2-8969-B430BAB5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C69E-F6D3-4AF3-A9B7-4174FAE1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F6A3-C2E4-4F28-B80E-E9999586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F35B-1DE4-4AD6-88DF-F3CF20D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560-177E-4F2C-A8E9-A204A6E4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D54-D1CE-43CC-BC8E-B000154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8581-7541-45CE-9480-83FE54AE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62A4-C845-4879-9702-A8B74A1F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94BC-D468-40EC-8A1E-5187DB76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F878-F7FF-4B7C-93F9-8E3020E0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A4D-31F7-4E24-94F7-0A21C944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82B-6315-47DF-8DAD-DCC00D30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524-6471-460C-BE75-5F509389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141-C9D0-49E6-B325-71F6B346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9DF-1E3F-458D-9BD2-5826224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1E8-FAEC-43AE-986B-2578E36D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4A7-92B3-4A11-9457-AFEF17D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07D6-98DA-4353-8FDD-1E4622C26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DA51-7A22-4B4A-9BD5-FE410A8A6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7440" y="479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ЫЙ ДЕН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345440" cy="4464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 flipV="1">
            <a:off x="5796000" y="1708560"/>
            <a:ext cx="292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намическая пауз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1692360" y="1197000"/>
            <a:ext cx="77040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 определения части ре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то обозна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а какой вопрос отве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акой частью речи явля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900000" y="476280"/>
            <a:ext cx="777564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5000b"/>
                </a:solidFill>
                <a:latin typeface="Times New Roman"/>
                <a:ea typeface="Times New Roman"/>
              </a:rPr>
              <a:t>1.Напишите над словами, какую часть речи они       обознач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5000b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черкните  грамматическую осно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ьёт сильный дожд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1285920" y="178596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ьёт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ильный </a:t>
            </a:r>
            <a:r>
              <a:rPr b="1" lang="ru-RU" sz="5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ожд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928880" y="1571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143240" y="164304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643800" y="171468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42920" y="69228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 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Задать к слову вопро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.Определить ,что обозначает сло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.Назвать часть речи , к котор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носится это сло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9080" y="857160"/>
            <a:ext cx="1857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C:\Users\Дом\Desktop\крас.jpg"/>
          <p:cNvPicPr/>
          <p:nvPr/>
        </p:nvPicPr>
        <p:blipFill>
          <a:blip r:embed="rId1"/>
          <a:stretch/>
        </p:blipFill>
        <p:spPr>
          <a:xfrm>
            <a:off x="857160" y="421488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s://avatars.mds.yandex.net/i?id=e9abe8167a6aa5060e170ea4489dced7e440251f-5103223-images-thumbs&amp;n=13"/>
          <p:cNvPicPr/>
          <p:nvPr/>
        </p:nvPicPr>
        <p:blipFill>
          <a:blip r:embed="rId2"/>
          <a:stretch/>
        </p:blipFill>
        <p:spPr>
          <a:xfrm>
            <a:off x="1143000" y="2214720"/>
            <a:ext cx="1928880" cy="204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ttps://avatars.mds.yandex.net/i?id=8496cb8eeae7e52e1d2605b4df337fbbeceb2418-6307799-images-thumbs&amp;n=13"/>
          <p:cNvPicPr/>
          <p:nvPr/>
        </p:nvPicPr>
        <p:blipFill>
          <a:blip r:embed="rId3"/>
          <a:stretch/>
        </p:blipFill>
        <p:spPr>
          <a:xfrm>
            <a:off x="928800" y="428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3643200" y="642960"/>
            <a:ext cx="471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Всё понял, смогу помочь други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3643200" y="292752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</a:rPr>
              <a:t>Понял, но не смогу помочь други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3571920" y="48578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 понял, мне нужна помощ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132000" y="1413000"/>
            <a:ext cx="460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егда он в рабо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гда говори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 отдыха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гда мы молч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635280" y="10429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З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1680" y="5214960"/>
            <a:ext cx="8229600" cy="88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s://i.pinimg.com/originals/ee/8f/6e/ee8f6eb9d5532b59d810c324a1a0573f.jpg"/>
          <p:cNvPicPr/>
          <p:nvPr/>
        </p:nvPicPr>
        <p:blipFill>
          <a:blip r:embed="rId2"/>
          <a:stretch/>
        </p:blipFill>
        <p:spPr>
          <a:xfrm>
            <a:off x="1143000" y="378612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s://avatars.mds.yandex.net/i?id=84db158f5e7d8f292f32bb3fbda509cc5a90f1e8-7679814-images-thumbs&amp;n=13"/>
          <p:cNvPicPr/>
          <p:nvPr/>
        </p:nvPicPr>
        <p:blipFill>
          <a:blip r:embed="rId3"/>
          <a:stretch/>
        </p:blipFill>
        <p:spPr>
          <a:xfrm>
            <a:off x="1428840" y="114300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s://avatars.mds.yandex.net/i?id=937c6ae515c159bca527fa705b50efe4d2b3b1c3-7999331-images-thumbs&amp;n=13"/>
          <p:cNvPicPr/>
          <p:nvPr/>
        </p:nvPicPr>
        <p:blipFill>
          <a:blip r:embed="rId4"/>
          <a:stretch/>
        </p:blipFill>
        <p:spPr>
          <a:xfrm>
            <a:off x="5286240" y="642960"/>
            <a:ext cx="3071880" cy="197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Картинки пламя огня."/>
          <p:cNvPicPr/>
          <p:nvPr/>
        </p:nvPicPr>
        <p:blipFill>
          <a:blip r:embed="rId5"/>
          <a:stretch/>
        </p:blipFill>
        <p:spPr>
          <a:xfrm>
            <a:off x="4857840" y="285768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, ЯЗЫКОМ, ТОРОПИСЬ, СПЕШИ, ДЕЛОМ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600200"/>
            <a:ext cx="911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е спеши языком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торопись делом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045080" y="884160"/>
            <a:ext cx="2573640" cy="205020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ес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нежинк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лк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3824280" y="1557360"/>
            <a:ext cx="2101320" cy="205020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ёмны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ёгкая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ярко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6194160" y="2492280"/>
            <a:ext cx="2241720" cy="2050200"/>
          </a:xfrm>
          <a:prstGeom prst="pie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еленее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адае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ти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D:\клипарты\природа\0_c2e0c_221cc048_S.png"/>
          <p:cNvPicPr/>
          <p:nvPr/>
        </p:nvPicPr>
        <p:blipFill>
          <a:blip r:embed="rId1">
            <a:lum bright="-50000"/>
          </a:blip>
          <a:stretch/>
        </p:blipFill>
        <p:spPr>
          <a:xfrm>
            <a:off x="7236000" y="4797360"/>
            <a:ext cx="157788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:\клипарты\цифры буквы\цифры запятые точки\0_4bc3a_c392e0c9_L.png"/>
          <p:cNvPicPr/>
          <p:nvPr/>
        </p:nvPicPr>
        <p:blipFill>
          <a:blip r:embed="rId2">
            <a:lum bright="-50000"/>
          </a:blip>
          <a:stretch/>
        </p:blipFill>
        <p:spPr>
          <a:xfrm>
            <a:off x="6948360" y="573120"/>
            <a:ext cx="1224000" cy="122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47640" y="1268280"/>
          <a:ext cx="6337440" cy="4175280"/>
        </p:xfrm>
        <a:graphic>
          <a:graphicData uri="http://schemas.openxmlformats.org/drawingml/2006/table">
            <a:tbl>
              <a:tblPr/>
              <a:tblGrid>
                <a:gridCol w="1644840"/>
                <a:gridCol w="1787400"/>
                <a:gridCol w="2905200"/>
              </a:tblGrid>
              <a:tr h="180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зна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с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о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3"/>
          <p:cNvSpPr/>
          <p:nvPr/>
        </p:nvSpPr>
        <p:spPr>
          <a:xfrm>
            <a:off x="3189240" y="765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-на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3419640" y="1773360"/>
            <a:ext cx="446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сти реч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900000" y="1557360"/>
          <a:ext cx="7488360" cy="4032360"/>
        </p:xfrm>
        <a:graphic>
          <a:graphicData uri="http://schemas.openxmlformats.org/drawingml/2006/table">
            <a:tbl>
              <a:tblPr/>
              <a:tblGrid>
                <a:gridCol w="2880000"/>
                <a:gridCol w="2663640"/>
                <a:gridCol w="1944720"/>
              </a:tblGrid>
              <a:tr h="1092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зна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ейств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с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о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дела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8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МЯ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4"/>
          <p:cNvSpPr/>
          <p:nvPr/>
        </p:nvSpPr>
        <p:spPr>
          <a:xfrm>
            <a:off x="3089520" y="80496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а - наз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Дом</cp:lastModifiedBy>
  <dcterms:modified xsi:type="dcterms:W3CDTF">2023-02-05T11:41:49Z</dcterms:modified>
  <cp:revision>51</cp:revision>
  <dc:subject/>
  <dc:title>Слайд 1</dc:title>
</cp:coreProperties>
</file>